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3F8-B9CF-4C3E-9CB7-E74032BD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7A2-21D1-485F-9197-23B6C5A2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3F2-7406-45E0-AE19-78A8B886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41D-141D-4324-AA9E-09A31441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0B4D-FBA3-42C0-B4A7-67D276DE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F23B-052A-49B1-8F2C-B80637E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919D-0E90-4C15-BCC2-E4F0842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2C2A-3B9F-4F62-B92A-FB2A532A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9A09-4D04-4A96-8617-76CDEC5F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0091-F0B9-44C8-B779-1274A56F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E246-8CE5-4236-9946-48EAE76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95E-D9F8-4066-8215-0DF6087E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A03-BB96-41B0-B386-1665241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F497-907A-4B3E-9E0E-B420193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B3CA-F176-43CB-894D-CC8E4AE1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8AC7-A427-42CB-A6B3-6AA15336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519C-DA0A-4E0A-AB27-851DB068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59DD-630B-4F9E-9568-3111D499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EF36-2AC7-4C53-900D-CBC12211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D6C1-5682-4E1F-94DE-2C042A33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0446-1F02-4102-8212-F2A98A73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A3A4-3E9B-4CA2-A033-AE3EB9D6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265-A25B-4CBF-AA59-B3F95283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E540-C806-403A-9BB2-225983CE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41BC-8431-4BF7-9334-CEBC5D3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4904-DFAE-4601-BFC4-7611B4E5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4EF2-5FF9-4A15-8E58-975D93D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8A28-8504-4D79-8246-18C3ABE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D19F-E57C-447D-AE69-3D5A3BB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146F-7FBC-43F3-BAFD-F107C4DC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5C46-320E-4D0E-B7AB-A2FFB5D6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7061-526D-47E1-BC1A-72D8D015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6B080-C07F-42B0-A47B-559C847D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D07-3D12-4AF7-ABD7-2E75C9E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4DFD-39D7-47D8-B2D0-5404BAF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3FFD-8466-4F35-9208-09D0BC57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BC11-8C46-4CA2-A19B-DC1E988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6B2AE-8A2C-4BA8-8E57-841CE3F9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F551-363A-4E99-9E0E-3926514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2B11-FC9E-4C26-B6E1-26824761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FD28-E749-4D26-973F-55B23DE9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9963-5468-4DEF-9E4D-2BD20854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B9D1-DBEF-4C7E-93EA-69B9A4B7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BA6F0-8B87-47A9-ACCE-F9B0C585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FB4-36A3-4145-ACA4-2F6DD1EC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DCF5-3911-417D-BD92-B8E099A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3242-91ED-4F12-B6CD-E73ADB0E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1E68-55DC-4B54-8BD3-05CD5F1E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7041A-50E3-44BC-AA58-C06BF06B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3CCD-5530-4333-B961-1F3E198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80CD-5C5C-48E3-A4CA-978D8E3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CEC9-5E24-4A45-AACE-D18D5FB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1E3E-93B4-4CAE-A7F0-6CB5D91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E121-C7D1-4C9A-89CA-55E7E035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FFC48-B769-481C-871A-CEBE0B09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9E5-09D6-4A41-B1C2-3A815D76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9383-C478-4A7E-8AEC-445CCCAA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1CAD-9589-49B7-BFC6-E9FFD2A9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95992-891E-4A9C-8F6F-5352349A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FF53-6E00-47D8-B41D-BBE8E5B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24AE6-15FD-484A-AD57-7A1403F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26FF-87A0-4D1F-B890-234D8D1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9D2DF-538E-408D-BB29-6FE5A2FC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0C8ED-A172-4D27-93B2-40232B94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9464F-10A9-483D-80B0-D3ECDCA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BC07A-410D-40A7-9265-3BAAC4F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4A4-1954-4E04-A2CA-929885C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3880-3FCA-4AE0-8E45-263332B8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4FD8-F76A-4B4D-AE73-4958AAA5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6C4D3-AC5D-4CCD-9319-B94E4208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DC0-DDAD-4963-AAB2-90D4DB06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0AD-4CCE-42B0-8081-33343988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78B-5DF2-46C6-8699-3D696D727E89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476-5DCD-421D-8D8A-BFAC9592192A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2371-0DDA-4155-89B8-F71CB004A7AF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89B7-9491-4A83-9DE3-EC7755046B5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BBC4-F0E5-4873-B8BD-0FE44DFDB117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5346-1F8B-4CF8-BF9D-E0F5B5B1A76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Материал к уроку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итывая смысл данных ниже слов автора, придумайте прямую речь, вставьте ее на месте пропуска и запишите получившиеся предложения с прямой речью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робко проговорил ма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?» - тихо спросила 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– шепотом ответила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- громко крикнул брат и отворил две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взволнованно сказала 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уверенно произнес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место предложений с прямой речью запишите сложные предложения с союзом </a:t>
            </a:r>
            <a:r>
              <a:rPr b="1" lang="ru-RU" sz="2800" spc="-1" strike="noStrike">
                <a:solidFill>
                  <a:srgbClr val="672020"/>
                </a:solidFill>
                <a:latin typeface="Franklin Gothic Book"/>
              </a:rPr>
              <a:t>что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е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: «В первый четверг октября к нам в гости приедут артисты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, </a:t>
            </a:r>
            <a:r>
              <a:rPr b="0" lang="ru-RU" sz="3600" spc="-1" strike="noStrike">
                <a:solidFill>
                  <a:srgbClr val="672020"/>
                </a:solidFill>
                <a:latin typeface="Arial"/>
              </a:rPr>
              <a:t>чт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ервый четверг октября к ним приедут артис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47592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руководитель объявил нам: «В понедельник будет общешкольное собран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оста сказал: «Смотр художественной самодеятельности состоится в следующую сред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 писал: «Я вернусь из командировки не раньше воскресень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жатая предупредила нас: «Сбор макулатуры назначается на вторни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текст. Озаглавьте его, затем спишите, расставляя знак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обеда папа сел за какую-то книгу, но потом отложил ее в сторону и спросил Вася, как дела в школе. Изо всех сил Вася старался скрыть радостную улыбку. Он подал тетрадь и произнес Вчера был диктант. Вот, вернули с отметками. Отец перелистал несколько страниц и увидел пятерку.  И как же ты ошибок не наделал спросил папа. Со мной Нина сидит, а она, знаешь, как пишет похвастался Вася.  Вот оно что протянул отец. А потом добавил Значит, ты сегодня не свою, а чужую пятерку принес. Лицо у Васи стало растерянным и жалким, улыбки как не быва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Рос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спомним основные схемы предложений с прямой речью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1397160"/>
          <a:ext cx="7921440" cy="50036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!»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: «П!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?» –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?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»,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»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57" name="Управляющая кнопка: домой 4">
            <a:hlinkClick r:id="rId1" action="ppaction://hlinksldjump"/>
          </p:cNvPr>
          <p:cNvSpPr/>
          <p:nvPr/>
        </p:nvSpPr>
        <p:spPr>
          <a:xfrm>
            <a:off x="8028000" y="6093000"/>
            <a:ext cx="863640" cy="54900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3971" h="21600">
                <a:moveTo>
                  <a:pt x="0" y="0"/>
                </a:moveTo>
                <a:lnTo>
                  <a:pt x="33971" y="0"/>
                </a:lnTo>
                <a:lnTo>
                  <a:pt x="33971" y="21600"/>
                </a:lnTo>
                <a:lnTo>
                  <a:pt x="0" y="21600"/>
                </a:lnTo>
                <a:close/>
              </a:path>
              <a:path fill="lightenLess" w="33971" h="21600">
                <a:moveTo>
                  <a:pt x="0" y="0"/>
                </a:moveTo>
                <a:lnTo>
                  <a:pt x="33971" y="0"/>
                </a:lnTo>
                <a:lnTo>
                  <a:pt x="32571" y="1400"/>
                </a:lnTo>
                <a:lnTo>
                  <a:pt x="1400" y="1400"/>
                </a:lnTo>
                <a:close/>
              </a:path>
              <a:path fill="darken" w="33971" h="21600">
                <a:moveTo>
                  <a:pt x="33971" y="0"/>
                </a:moveTo>
                <a:lnTo>
                  <a:pt x="33971" y="21600"/>
                </a:lnTo>
                <a:lnTo>
                  <a:pt x="32571" y="20200"/>
                </a:lnTo>
                <a:lnTo>
                  <a:pt x="32571" y="1400"/>
                </a:lnTo>
                <a:close/>
              </a:path>
              <a:path fill="darkenLess" w="33971" h="21600">
                <a:moveTo>
                  <a:pt x="3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1" y="20200"/>
                </a:lnTo>
                <a:close/>
              </a:path>
              <a:path fill="lighten" w="3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71" h="21600">
                <a:moveTo>
                  <a:pt x="16986" y="3837"/>
                </a:moveTo>
                <a:lnTo>
                  <a:pt x="19562" y="6448"/>
                </a:ln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lnTo>
                  <a:pt x="23949" y="10800"/>
                </a:lnTo>
                <a:lnTo>
                  <a:pt x="22295" y="10800"/>
                </a:lnTo>
                <a:lnTo>
                  <a:pt x="22295" y="17989"/>
                </a:lnTo>
                <a:lnTo>
                  <a:pt x="11676" y="17989"/>
                </a:lnTo>
                <a:lnTo>
                  <a:pt x="11676" y="10800"/>
                </a:lnTo>
                <a:lnTo>
                  <a:pt x="10023" y="10800"/>
                </a:lnTo>
                <a:close/>
              </a:path>
              <a:path fill="darkenLess" w="33971" h="21600">
                <a:moveTo>
                  <a:pt x="19562" y="6448"/>
                </a:move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close/>
              </a:path>
              <a:path fill="darkenLess" w="33971" h="21600">
                <a:moveTo>
                  <a:pt x="16063" y="14299"/>
                </a:moveTo>
                <a:lnTo>
                  <a:pt x="17908" y="14299"/>
                </a:lnTo>
                <a:lnTo>
                  <a:pt x="17908" y="17989"/>
                </a:lnTo>
                <a:lnTo>
                  <a:pt x="22295" y="17989"/>
                </a:lnTo>
                <a:lnTo>
                  <a:pt x="22295" y="10800"/>
                </a:lnTo>
                <a:lnTo>
                  <a:pt x="11676" y="10800"/>
                </a:lnTo>
                <a:lnTo>
                  <a:pt x="11676" y="17989"/>
                </a:lnTo>
                <a:lnTo>
                  <a:pt x="16063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предложения из книг Э.Успенского. Составьте их схемы. Объясните постановку знаков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ам, наверное, нужны друзья?» - спросил обезьянку Крокоди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вашем объявлении целых три ошибки», - сказала девоч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 может быть!» - воскликну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ушка уселась на стул и спросила: «Кто из вас будет Крокоди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6407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Как называются выделенные слова? Объясните постановку знаков препинания при ни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1628280"/>
            <a:ext cx="80647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просил: «Можете ли вы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уважаемый людое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евратиться в зверька помень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оед ответил: «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Конеч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мог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казал: «Тогда превратитесь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пожалуйс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мышь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324000" y="404640"/>
            <a:ext cx="86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предшествовала словам ав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следовала за словами автор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9640" y="191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Где же река?» – спросил я у Са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он там за лесом», - ответил он, указывая рукой вда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Как далеко!» - огорчился 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 словах автора выделены глаголы. При списывании подчеркните тот глагол, который вводит прямую речь в высказывание. Поставьте пропущенны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413000"/>
            <a:ext cx="864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едя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..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а обл..ка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каза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Гроза буд..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н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отв..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ашу в стор..ну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оси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 разве Саша Коншаков не р..ботает с ва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ш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дб..жа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к дедушке и ро..ко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..сил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душка а когда же землю начнем к..п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ньк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о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 поле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роизнес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есна-то какая Маш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33200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д обращением поставьте букву 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Franklin Gothic Book"/>
              </a:rPr>
              <a:t>Миша Лентяйкин пришел в школу довольный. «Вот какой рассказ я написал!» - похвастался он. Давайте прочтем его вместе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апа спросил у Васи: «Сегодня мы пойдем в музей». Вася обрадовался и ответил: «А в какой?» «В исторический», - громко закричал папа. «Ура! – поинтересовался Вася. – Я никогда там не был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автракав, они поехали в музей. «Что мы там увидим?» - рассказал Вася папе. «Многое, - задал вопрос отец. – Увидим, как жили люди в древности, какие носили наряды, какое у них было оружие. Увидишь сам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Управляющая кнопка: далее 3">
            <a:hlinkClick r:id="rId1" action="ppaction://hlinksldjump"/>
          </p:cNvPr>
          <p:cNvSpPr/>
          <p:nvPr/>
        </p:nvSpPr>
        <p:spPr>
          <a:xfrm>
            <a:off x="788508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ажется ли вам Мишин текст смешным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смотрел на рассказ его приятель Дима Пятеркин, покачал головой и стал исправлять. Запишите и вы Мишин рассказ в исправленном виде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276720" y="5589720"/>
            <a:ext cx="1224000" cy="64764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12" h="21600">
                <a:moveTo>
                  <a:pt x="0" y="0"/>
                </a:moveTo>
                <a:lnTo>
                  <a:pt x="40812" y="0"/>
                </a:lnTo>
                <a:lnTo>
                  <a:pt x="40812" y="21600"/>
                </a:lnTo>
                <a:lnTo>
                  <a:pt x="0" y="21600"/>
                </a:lnTo>
                <a:close/>
              </a:path>
              <a:path fill="lightenLess" w="40812" h="21600">
                <a:moveTo>
                  <a:pt x="0" y="0"/>
                </a:moveTo>
                <a:lnTo>
                  <a:pt x="40812" y="0"/>
                </a:lnTo>
                <a:lnTo>
                  <a:pt x="39412" y="1400"/>
                </a:lnTo>
                <a:lnTo>
                  <a:pt x="1400" y="1400"/>
                </a:lnTo>
                <a:close/>
              </a:path>
              <a:path fill="darken" w="40812" h="21600">
                <a:moveTo>
                  <a:pt x="40812" y="0"/>
                </a:moveTo>
                <a:lnTo>
                  <a:pt x="40812" y="21600"/>
                </a:lnTo>
                <a:lnTo>
                  <a:pt x="39412" y="20200"/>
                </a:lnTo>
                <a:lnTo>
                  <a:pt x="39412" y="1400"/>
                </a:lnTo>
                <a:close/>
              </a:path>
              <a:path fill="darkenLess" w="40812" h="21600">
                <a:moveTo>
                  <a:pt x="40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12" y="20200"/>
                </a:lnTo>
                <a:close/>
              </a:path>
              <a:path fill="lighten" w="40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12" h="21600">
                <a:moveTo>
                  <a:pt x="13400" y="10800"/>
                </a:moveTo>
                <a:lnTo>
                  <a:pt x="27412" y="3794"/>
                </a:lnTo>
                <a:lnTo>
                  <a:pt x="274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4572000" y="573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иться к тек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думайте прямую речь и вставьте ее на месте пропуска. Запишите получившиеся предложения с прямой речью, расставьт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итель спрос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ректор говорил 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жатый сказал 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журный рассказал 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жий обратился с вопросом к ребятам 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льчик воскликнул 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ароста объяв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ир группы скомандовал 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667640" y="602136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21220" y="10800"/>
                </a:moveTo>
                <a:lnTo>
                  <a:pt x="31725" y="3794"/>
                </a:lnTo>
                <a:lnTo>
                  <a:pt x="31725" y="17806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19375" y="3794"/>
                </a:lnTo>
                <a:lnTo>
                  <a:pt x="19375" y="17806"/>
                </a:lnTo>
                <a:lnTo>
                  <a:pt x="177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3:57Z</dcterms:modified>
  <cp:revision>80</cp:revision>
  <dc:subject/>
  <dc:title>Слайд 1</dc:title>
</cp:coreProperties>
</file>